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43F-B10E-421F-8455-71EAE75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FF4-667A-4176-9EF1-A13AE8A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708-3EF3-4C95-8953-737B5620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57D-1B6B-4AB6-8D2B-E7058C6B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B2C-D3C9-4AAC-A705-5332AD5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08C-4C89-42C3-9AF5-5DBCE6A7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936-DEFB-4C5D-B2D7-D8F1B7B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E03-89A0-4937-B3D1-907088EF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3B5-074F-4554-8D13-0128080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97F-2376-4723-B306-5375BAD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C7C-3A6C-45E1-8A53-B4E517E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9BC-3161-4EE5-BA7D-D3F3760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F35-9A09-4200-88C1-298893E6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6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60280"/>
            <a:ext cx="3527280" cy="490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av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c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a 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a bicic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cam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t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 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a furgon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333360"/>
            <a:ext cx="3527280" cy="490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tor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l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underground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5300640"/>
            <a:ext cx="676764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tch the English and Spanish forms of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la matricul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8247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la rued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la direcciona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a defen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1655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a puer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086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8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2159280" cy="131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16360" cy="12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77080" y="270828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643280" y="27082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11280" y="2492280"/>
            <a:ext cx="1728720" cy="170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732720" y="907920"/>
            <a:ext cx="2087280" cy="140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4284720" y="981000"/>
            <a:ext cx="2232000" cy="1306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2484360" y="765000"/>
            <a:ext cx="1656000" cy="164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68360" y="836640"/>
            <a:ext cx="1871640" cy="14032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411280" y="2492280"/>
            <a:ext cx="2089440" cy="1606680"/>
            <a:chOff x="2411280" y="2492280"/>
            <a:chExt cx="2089440" cy="1606680"/>
          </a:xfrm>
        </p:grpSpPr>
        <p:pic>
          <p:nvPicPr>
            <p:cNvPr id="83" name="" descr=""/>
            <p:cNvPicPr/>
            <p:nvPr/>
          </p:nvPicPr>
          <p:blipFill>
            <a:blip r:embed="rId12"/>
            <a:stretch/>
          </p:blipFill>
          <p:spPr>
            <a:xfrm>
              <a:off x="2411280" y="2708280"/>
              <a:ext cx="2089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411280" y="2492280"/>
              <a:ext cx="43200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549360"/>
            <a:ext cx="77770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 u="sng">
                <a:solidFill>
                  <a:srgbClr val="000000"/>
                </a:solidFill>
                <a:uFillTx/>
                <a:latin typeface="Arial"/>
              </a:rPr>
              <a:t>As... po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+ adjective / adverb +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 pronto posible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 peligroso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as dangerou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lo más pequeño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as small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800000" cy="126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2159280" cy="131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16360" cy="12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877080" y="270828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643280" y="27082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611280" y="2492280"/>
            <a:ext cx="1728720" cy="170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732720" y="907920"/>
            <a:ext cx="2087280" cy="140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4284720" y="981000"/>
            <a:ext cx="2232000" cy="130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2484360" y="765000"/>
            <a:ext cx="1656000" cy="164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468360" y="836640"/>
            <a:ext cx="1871640" cy="14032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411280" y="2492280"/>
            <a:ext cx="2089440" cy="1606680"/>
            <a:chOff x="2411280" y="2492280"/>
            <a:chExt cx="2089440" cy="1606680"/>
          </a:xfrm>
        </p:grpSpPr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2411280" y="2708280"/>
              <a:ext cx="2089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411280" y="2492280"/>
              <a:ext cx="432000" cy="43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1008000" cy="70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1224000" cy="74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00640"/>
            <a:ext cx="1079640" cy="6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42920" y="436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788000" y="5994360"/>
            <a:ext cx="107928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859280" y="3357720"/>
            <a:ext cx="1008000" cy="671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042920" y="3213000"/>
            <a:ext cx="865080" cy="854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788000" y="1197000"/>
            <a:ext cx="1008000" cy="677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859280" y="2421000"/>
            <a:ext cx="1079640" cy="63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1042920" y="2276640"/>
            <a:ext cx="863640" cy="85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971640" y="1125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530064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602136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602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530064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684360" y="5060880"/>
            <a:ext cx="1152360" cy="766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395280" y="5180040"/>
            <a:ext cx="527040" cy="26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forms of transpor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12 car pa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say as… as possibl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complete a quick conversation asking for hel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l vola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0562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4000" y="4724280"/>
            <a:ext cx="561672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Arial"/>
              </a:rPr>
              <a:t>el espejo retrovisor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032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4000" y="4724280"/>
            <a:ext cx="47530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Arial"/>
              </a:rPr>
              <a:t>el espejo lateral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715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el parabri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95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el tapacub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l cof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1280" y="550800"/>
            <a:ext cx="4753080" cy="3548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1187280" y="836280"/>
            <a:ext cx="2305080" cy="115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4000" y="472428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l fa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1:24:46Z</dcterms:created>
  <dc:creator>Owner1</dc:creator>
  <dc:description/>
  <dc:language>en-US</dc:language>
  <cp:lastModifiedBy>Owner1</cp:lastModifiedBy>
  <dcterms:modified xsi:type="dcterms:W3CDTF">2008-11-14T16:24:48Z</dcterms:modified>
  <cp:revision>6</cp:revision>
  <dc:subject/>
  <dc:title>Slide 1</dc:title>
</cp:coreProperties>
</file>